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2649-EA55-4152-BD7F-F06A323AB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each group a different point to substitute into the equations to check to see which one satisifies the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only suggested starters f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58B-3678-4B62-8FC2-1A152038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8AD-F4DB-47AA-9BD6-FB1FE8DC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3D6-1B59-4B33-9233-D3D1799F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423-E125-4891-9A82-D8039BED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D408-C0E0-4FAC-996A-FC7A429F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F31F-F95C-4C3B-8487-13A5D045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EC1E-72FD-46B8-9F61-9B46C0C5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1E4E-224B-49F6-8B17-5A678672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0E08-7904-4BD3-8B55-F6DE8908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7518-130B-4995-9DD9-34585517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A38E-DE53-4568-977A-BE7E519F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0D4-A19E-4421-8F9B-272E8240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B2DC-1E62-43A4-B5AD-94117EC5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D186-A6BF-4D6F-8B03-D82844A5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EBA8-1CAA-422C-B9FC-DB71B291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85F6-93A3-4887-94B6-D0BBBD9D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923D-0594-4677-8469-9B16B35C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4FB-D988-415D-85E7-9EDDBB21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8E4-C537-4939-89D0-DD5F2DF6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AA3-6873-4C40-BF5B-2BBE2713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7BC-500C-4F0B-88B6-E3000E85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3C7-A36A-48E5-9267-2D6FF124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2FC-C792-4142-A710-4AD25604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7EA-0680-4976-B189-4300207D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D753-7B21-4954-916E-2525CD6043A6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EBA0-23FD-48F6-B84E-573944FFBE8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45080" cy="454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Linear Relations Day 2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18, 2009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Greg Clarke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38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39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684600" y="3173400"/>
            <a:ext cx="177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r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lk This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75200" y="146520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ade 9 Unit 5 T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821120" y="2052720"/>
            <a:ext cx="4068360" cy="2279160"/>
            <a:chOff x="4821120" y="2052720"/>
            <a:chExt cx="4068360" cy="2279160"/>
          </a:xfrm>
        </p:grpSpPr>
        <p:sp>
          <p:nvSpPr>
            <p:cNvPr id="151" name=""/>
            <p:cNvSpPr/>
            <p:nvPr/>
          </p:nvSpPr>
          <p:spPr>
            <a:xfrm>
              <a:off x="5919120" y="3933360"/>
              <a:ext cx="2364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Time (second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1120" y="2157120"/>
              <a:ext cx="641880" cy="179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Distance (metre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5325480" y="2052720"/>
              <a:ext cx="3564000" cy="191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369720" y="1917720"/>
            <a:ext cx="450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graph describes Rami’s walk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motion detector.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the story that describes this graph.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se distance away from the w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d time in your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486400" y="4352760"/>
            <a:ext cx="2743200" cy="1838160"/>
            <a:chOff x="5486400" y="4352760"/>
            <a:chExt cx="2743200" cy="1838160"/>
          </a:xfrm>
        </p:grpSpPr>
        <p:sp>
          <p:nvSpPr>
            <p:cNvPr id="156" name="Cloud"/>
            <p:cNvSpPr/>
            <p:nvPr/>
          </p:nvSpPr>
          <p:spPr>
            <a:xfrm>
              <a:off x="5486400" y="435276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70800" y="467964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lk This Wa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392720" y="2973240"/>
            <a:ext cx="4120560" cy="2849400"/>
            <a:chOff x="4392720" y="2973240"/>
            <a:chExt cx="4120560" cy="28494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4899600" y="2973240"/>
              <a:ext cx="361368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506920" y="5308920"/>
              <a:ext cx="239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Time (second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92720" y="3024360"/>
              <a:ext cx="650880" cy="23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Distance (metre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84560" y="1676880"/>
            <a:ext cx="804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A story is described be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ketch the graph that describes the story in the screen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4200" y="3045600"/>
            <a:ext cx="438408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gin 5 metres from the wall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lk towards the wall for 5 seconds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op for 5 seconds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un back to your starting position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814400" y="4567320"/>
            <a:ext cx="2743200" cy="1838160"/>
            <a:chOff x="1814400" y="4567320"/>
            <a:chExt cx="2743200" cy="1838160"/>
          </a:xfrm>
        </p:grpSpPr>
        <p:sp>
          <p:nvSpPr>
            <p:cNvPr id="166" name="Cloud"/>
            <p:cNvSpPr/>
            <p:nvPr/>
          </p:nvSpPr>
          <p:spPr>
            <a:xfrm>
              <a:off x="1814400" y="456732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98800" y="489420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04920" y="2662200"/>
            <a:ext cx="3048120" cy="2032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788000" y="1515960"/>
            <a:ext cx="2070000" cy="4469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Explore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416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ermat’s Footwear Wag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38080" y="1425600"/>
            <a:ext cx="69040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2338560" y="4889520"/>
            <a:ext cx="2057400" cy="1541520"/>
            <a:chOff x="2338560" y="4889520"/>
            <a:chExt cx="2057400" cy="1541520"/>
          </a:xfrm>
        </p:grpSpPr>
        <p:sp>
          <p:nvSpPr>
            <p:cNvPr id="174" name="Cloud"/>
            <p:cNvSpPr/>
            <p:nvPr/>
          </p:nvSpPr>
          <p:spPr>
            <a:xfrm>
              <a:off x="2338560" y="4889520"/>
              <a:ext cx="2057400" cy="154152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51680" y="5163480"/>
              <a:ext cx="172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130640" y="9867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 10 Applied  Unit 4  Day 1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Using Equations as a Point Tester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36160" y="27885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01s +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7600" y="34617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10s +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20600" y="42681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100s +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86760" y="50349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05s + 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TIIimagefile1696" descr="[image]"/>
          <p:cNvPicPr/>
          <p:nvPr/>
        </p:nvPicPr>
        <p:blipFill>
          <a:blip r:embed="rId1"/>
          <a:stretch/>
        </p:blipFill>
        <p:spPr>
          <a:xfrm>
            <a:off x="4470480" y="2114640"/>
            <a:ext cx="4322520" cy="3649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17800" y="2871720"/>
            <a:ext cx="6526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ek's Pay ($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06920" y="5705640"/>
            <a:ext cx="2594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 Value of Sales ($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26160" y="4746600"/>
            <a:ext cx="16164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45080" y="44290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16480" y="41464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4080" y="38512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02480" y="35830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320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How Do These Questions Connect to the Big Idea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42760" y="2832120"/>
            <a:ext cx="41263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an I Buy This B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19360" y="3832200"/>
            <a:ext cx="2315880" cy="4597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k T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90280" y="4707000"/>
            <a:ext cx="395856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at’s Footwea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Which MP Did You Experience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452680" y="1895400"/>
            <a:ext cx="43718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76200" y="41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irst Word – Last Wo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319000">
            <a:off x="6130440" y="2433600"/>
            <a:ext cx="955800" cy="752400"/>
          </a:xfrm>
          <a:custGeom>
            <a:avLst/>
            <a:gdLst>
              <a:gd name="textAreaLeft" fmla="*/ 119520 w 955800"/>
              <a:gd name="textAreaRight" fmla="*/ 836640 w 95580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51600" y="3322800"/>
            <a:ext cx="1452600" cy="1036440"/>
          </a:xfrm>
          <a:prstGeom prst="wedgeRoundRectCallout">
            <a:avLst>
              <a:gd name="adj1" fmla="val -9564"/>
              <a:gd name="adj2" fmla="val 76648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thinking tha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8797800">
            <a:off x="5868720" y="4429080"/>
            <a:ext cx="955440" cy="752400"/>
          </a:xfrm>
          <a:custGeom>
            <a:avLst/>
            <a:gdLst>
              <a:gd name="textAreaLeft" fmla="*/ 119160 w 955440"/>
              <a:gd name="textAreaRight" fmla="*/ 836280 w 95544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32200" y="4975200"/>
            <a:ext cx="1585800" cy="889200"/>
          </a:xfrm>
          <a:prstGeom prst="wedgeRectCallout">
            <a:avLst>
              <a:gd name="adj1" fmla="val 1453"/>
              <a:gd name="adj2" fmla="val 855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my cl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4200" y="3656160"/>
            <a:ext cx="1854360" cy="968400"/>
          </a:xfrm>
          <a:prstGeom prst="cloudCallout">
            <a:avLst>
              <a:gd name="adj1" fmla="val -44949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wonder i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3630200">
            <a:off x="2070360" y="4703760"/>
            <a:ext cx="955440" cy="752400"/>
          </a:xfrm>
          <a:custGeom>
            <a:avLst/>
            <a:gdLst>
              <a:gd name="textAreaLeft" fmla="*/ 119160 w 955440"/>
              <a:gd name="textAreaRight" fmla="*/ 836280 w 95544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9480800">
            <a:off x="1644120" y="2436840"/>
            <a:ext cx="955800" cy="752400"/>
          </a:xfrm>
          <a:custGeom>
            <a:avLst/>
            <a:gdLst>
              <a:gd name="textAreaLeft" fmla="*/ 119520 w 955800"/>
              <a:gd name="textAreaRight" fmla="*/ 836640 w 95580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05280" y="1258920"/>
            <a:ext cx="2836800" cy="1841400"/>
          </a:xfrm>
          <a:prstGeom prst="wedgeEllipseCallout">
            <a:avLst>
              <a:gd name="adj1" fmla="val 4171"/>
              <a:gd name="adj2" fmla="val 6706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son I chose this topic i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75000" y="3402000"/>
            <a:ext cx="23004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 Discussion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65320" y="1282680"/>
            <a:ext cx="2837160" cy="1841400"/>
          </a:xfrm>
          <a:prstGeom prst="wedgeEllipseCallout">
            <a:avLst>
              <a:gd name="adj1" fmla="val 6069"/>
              <a:gd name="adj2" fmla="val 656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cussion topic that I am interested in i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200" y="2151000"/>
            <a:ext cx="82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1:  Identify any stumbling blocks students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nter with your learning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6080" y="3743280"/>
            <a:ext cx="82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  Identify any areas that are under or 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hasized with your learning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es Research Tell Us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76200" y="1697040"/>
            <a:ext cx="84009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8246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2480" y="1676520"/>
            <a:ext cx="7980480" cy="35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1744560"/>
            <a:ext cx="74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 Solve all thre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y possible stumbling blocks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encou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00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832600">
            <a:off x="1047600" y="368604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74456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 Pick one or more solutions to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lgamate possible stumbling blocks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encou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05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832600">
            <a:off x="1066680" y="349992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al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ocuments"/>
          <p:cNvSpPr/>
          <p:nvPr/>
        </p:nvSpPr>
        <p:spPr>
          <a:xfrm>
            <a:off x="6437160" y="3330720"/>
            <a:ext cx="135288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: 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1744560"/>
            <a:ext cx="796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Circulate around the roo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ny comments or questions to solution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stumbling blocks on sticky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558120" y="3384720"/>
            <a:ext cx="1352520" cy="1809720"/>
            <a:chOff x="6558120" y="3384720"/>
            <a:chExt cx="1352520" cy="1809720"/>
          </a:xfrm>
        </p:grpSpPr>
        <p:sp>
          <p:nvSpPr>
            <p:cNvPr id="113" name="Document"/>
            <p:cNvSpPr/>
            <p:nvPr/>
          </p:nvSpPr>
          <p:spPr>
            <a:xfrm>
              <a:off x="6558120" y="3384720"/>
              <a:ext cx="1352520" cy="18097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689880" y="3825720"/>
              <a:ext cx="1077840" cy="86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llery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 </a:t>
              </a: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Walk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996160" y="2924280"/>
            <a:ext cx="1225440" cy="1087200"/>
            <a:chOff x="5996160" y="2924280"/>
            <a:chExt cx="1225440" cy="10872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5996160" y="2924280"/>
              <a:ext cx="1225440" cy="10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294600" y="2998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591320" y="4637160"/>
            <a:ext cx="762120" cy="1103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0832600">
            <a:off x="1114560" y="349200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hen Can I Buy this Bike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5200" y="146520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ade 8 Unit 2 Da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80" y="2140200"/>
            <a:ext cx="774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ckenzie has found the bicycle that she always wan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t costs $350.0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e received $300 as a gift from her fami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long would it take her to save enough money to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bike if she earns $12 a week babysit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64000" y="3881520"/>
            <a:ext cx="2743200" cy="1838160"/>
            <a:chOff x="5364000" y="3881520"/>
            <a:chExt cx="2743200" cy="1838160"/>
          </a:xfrm>
        </p:grpSpPr>
        <p:sp>
          <p:nvSpPr>
            <p:cNvPr id="124" name="Cloud"/>
            <p:cNvSpPr/>
            <p:nvPr/>
          </p:nvSpPr>
          <p:spPr>
            <a:xfrm>
              <a:off x="5364000" y="388152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48400" y="420840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27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28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456000" y="3254400"/>
            <a:ext cx="231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09-08-05T12:13:28Z</dcterms:modified>
  <cp:revision>94</cp:revision>
  <dc:subject/>
  <dc:title>Slide 1</dc:title>
</cp:coreProperties>
</file>